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4640263" cy="6616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0400" cy="66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2872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66720" y="496440"/>
            <a:ext cx="330840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1920" rIns="6192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2872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392-01FB-42B4-AC88-288540A2918E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0F5E-6DDF-4D50-A06C-637E6C184A0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578-AF56-494D-9B2E-8BCB09EBC505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말 프로그래밍된 컴퓨터가 그러한 답변을 훌륭하게 해낼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문제는 논외로 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FBB-D656-4443-8BEA-43C675FE20EC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5F5D-0E92-4280-8E2C-333474E02C57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도 실수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도 자신의 프로그램을 수정하며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 조작의 주체가 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억 용량만 커진다면 기계도 행동의 다양성을 보일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해진 절차에 의한 결과라도 새롭다고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D5DD-A829-482C-B534-BCBC72C8483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8F3-C3DA-4D92-93E3-F658A4C99CF6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식적으로 지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위 규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모든 상황에 대해 존재할 수 없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 법칙으로서의 완전한 행동 법칙이 존재하지 않는다는 것은 확신할 수 없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가 인간을 따라 수행해야 하는 규칙은 행동 법칙이지 행위 규칙이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8F28-68F5-4247-B1F3-A0BC42EDEB4F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665-C4DA-419A-A1FC-798F221373A7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체스는 인간을 흉내내다 못해 능가해버렸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럼에도 이 수행에서도 컴퓨터와 인간은 특징적인 차이를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는 아주 짧은 시간 내에 두어야 할 경우에 능력 잘 발휘하는 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람은 각각의 수에 시간이 충분히 주어진 경우에 능력을 더 잘 발휘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는 정밀하고 빠른 계산에 근거하여 결정을 내리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은 비교적 느린 의식적 평가에 근거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판단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많이 이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은 이러한 판단력을 이용하여 각 계산 단계에서 고려해야 할 가능한 상황의 개수를 대폭 줄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런 차이를 어떻게 알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수를 뒀는지 물어봄으로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CE2-A621-4D03-8FA1-8E8DF5B989F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외부 정보에 따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-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값을 미리 정의해 두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을 극대화하는 방향으로 움직이도록 프로그래밍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종의 기계를 만날 때마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를 높여 그들과 가까이하고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욕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심어주거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외부 세계의 사실을 메모리에 저장할 때마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를 높임으로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학구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심어줄 수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B85F-5EE9-4038-BCC5-F6BF30C2E375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히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에 따른 기계의 행동은 의식적 행동보다는 반사작용과 비슷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픔을 줄이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는 즐거움을 얻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동하는 것이 아닌 것 같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강한 인공지능에 따르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심지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도 조절 장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도 마음이 있게 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8ED-1FC5-4086-9115-E782579333C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B4B-509A-4F5F-8622-A34899FB7B4A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9C6-8E2C-48E6-83F2-6456C545F857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1EB1-AC02-4688-8246-C87D41B7FD6C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FCAC-2C6C-4EB6-971D-9DBD84A77461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F7CB-FC21-48B4-BDF9-CD763429E073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5A51-92A9-466E-9323-CCD4AE130459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데카르트에게 마음과 신체는 배타적 존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과 신체를 연결하는 곳이 필요한 데 그곳이 뇌의 한 부분인 송과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은 공간을 차지하고 있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데카르트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각하는 존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체는 기계에 불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동물은 마음이 없는 자동기계에 불과하다고 생각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관점은 이후 생물학의 발전으로 뇌와 마음 사이의 관련성이 밝혀짐으로써 엄청난 도전을 받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한편으로는 컴퓨터의 개발로 심각한 도전을 받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49F-2FF3-4D6A-8720-06C8BEBF095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영상에서 나온 검사는 외양까지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공 변화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가장 중요한 검사는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변을 통한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검사는 바로 앨런 튜링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논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산 기계와 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흉내내기 게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처음 등장하여 이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튜링 테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불리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200-B2FD-42BE-B996-522188868A3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성은 눈치 챌 수 없도록 질문과 대답은 타이핑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테스트를 통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문자가 기계와 사람을 혼동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E876-188E-4BE1-A95B-3688451602C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1B1E-61EB-4DC6-8D7B-749095B291F4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AF6-D95D-407B-B44A-23E7588B315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E797-6F1D-4FF0-BFA7-4CB4FEC2240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럼에도 사람은 어떻게든 위기를 모면할 수 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는 내부 알고리즘에 의해 영영 빠져나올 수 없는 상황이 있지 않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863-5F92-422E-A6DA-F9A0827C4166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F0D-07E2-41E6-96D9-DEC800B9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6D9-E542-4CA7-A6E2-B607EA99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187-BB3F-49C6-9947-A75D39D6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DFF-642C-4E52-8EC5-7602BAD5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DB7-E8F1-4A27-B979-176CDCD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01C-87D2-4897-A47D-D500416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C7B-B8BD-473A-B29A-02BCCEA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730-CBC4-49AA-B5F5-751C0B5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025-C50B-427B-941C-7697D6B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7F2-19C3-40D6-8DD1-64183B5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A0B-0CA6-4F69-A90B-AFF9D93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BC6-1A40-4AFD-BB40-82CA008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947-2AF6-4AF7-BFAC-CE33BF7561A9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lbo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hJVaTqU2So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279360"/>
            <a:ext cx="3673440" cy="451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기계는 생각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할 수 있는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2" descr="http://lifeboat.com/images/artificial.intelligence.jpg"/>
          <p:cNvPicPr/>
          <p:nvPr/>
        </p:nvPicPr>
        <p:blipFill>
          <a:blip r:embed="rId1"/>
          <a:stretch/>
        </p:blipFill>
        <p:spPr>
          <a:xfrm>
            <a:off x="539640" y="333360"/>
            <a:ext cx="4710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의식을 근거로 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기호가 어떤 우연으로 만들어지는 것이 아니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사고나 느낌에 의해 기계가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4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행시를 짓거나 협주곡을 작곡할 수 있게 될 때 비로소 우리는 기계가 뇌에 필적한다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즉 기계가 단지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4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행시를 쓴 것만이 아니라 그것을 쓴 사실을 알고 있다는 데 동의할 수 있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어떤 기계 장치도 그것이 성공했을 때의 기쁨을 느끼거나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단지 인위적으로 신호를 보내는 간편한 장치로서가 아니라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)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진공관이 끊어졌을 때 슬픔을 느낄 수는 없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또한 아첨을 받았을 때 기분이 좋아지거나 실수를 범했을 때 비참한 기분이 드는 일도 없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성적으로 매료되지도 않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원하는 것을 손에 넣지 못해서 노하거나 우울해지지도 않는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” (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제퍼슨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949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다른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사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 그런 의식적 특징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쁨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슬픔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흥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분노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우울 등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을 가진다는 것은 어떻게 믿느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만약 기계가 튜링 테스트에서 이해를 보여주는 듯한 답변을 훌륭하게 해낸다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제퍼슨은 무슨 말을 할 수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여러 결함을 근거로 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 사고가 가진 여러 특징을 컴퓨터는 가지지 못한다는 주장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예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주체적일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유머 감각을 가질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선악을 분간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실수를 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좋아하거나 싫어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경험으로부터 배울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의 주체가 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동의 다양성을 가질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전혀 새로운 일을 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거의 기계들로부터 잘못된 귀납한 결과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행위의 비형식성에 근거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할 수 있는 모든 상황 집합에서 어떤 사람이 무슨 일을 할 것인지를 기술하기 위한 규칙들의 집합을 만들어낸다는 것은 불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따라서 사람은 규칙에 따라 작동할 뿐인 기계일 수 없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위 규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동 법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구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 요약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로 인간과 구별이 안 되는 기계는 생각을 한다고 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디지털 컴퓨터로 계산 가능한 한계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=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의 한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특정한 종류의 기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디지털 컴퓨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른 기호 처리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공 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연구 탄생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인공 지능 연구들의 성과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레이 월터의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거북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tortoise)’ (1950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년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 통과를 위한 채팅 봇들</a:t>
            </a:r>
            <a:br>
              <a:rPr sz="3000"/>
            </a:br>
            <a:r>
              <a:rPr b="0" lang="en-US" sz="3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www.elbot.com/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(2009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체스 컴퓨터 딥 블루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패턴 인식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 학습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즐거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고통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의 문제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배터리가 떨어져 충전기로 돌아가는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거북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배가 고파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충전의 욕구가 생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본적인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AI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시뮬레이션 기법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P(leasure)-P(ain)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계수 극대화 기법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그러나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가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p-p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계수의 변화에 따라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쁨이나 아픔을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느낀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고 할 수 있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Yes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strong AI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No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약한 인공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weak AI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근본적인 질문들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한다는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느낀다는 것은 무엇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무엇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실제로 존재하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그 물리적 구조물과 어떤 관계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특정한 물리적 구조의 기능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물리적 구조는 꼭 뇌여야만 하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도 마음을 가질 수 있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존 설의 중국어 방 사고실험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에 대한 비판을 위해 설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의 통과가 마음의 존재를 보이기에 충분히 않음을 주장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의도성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intentionality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의 문제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을 넘어서는 물리적 인과 관계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대한 관심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호 조작을 넘어서는 의미의 문제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중국어방 상황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128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나는 방 안에서 중국어로 스토리와 질문을 받아 중국어로 대답을 제출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러나 나는 중국어를 그림 기호처럼 볼 수만 있을 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중국어를 하지 못함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다만 나는 스토리와 질문에 적힌 중국어 기호를 다루는 규칙이 명세된 한글책에 따라 그 일을 수행할 뿐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연 나는 스토리의 내용을 이해하고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존 설의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나의 입력과 출력은 중국인과 똑같음에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컴퓨터 프로그램처럼 일을 수행한 나는 스토리를 전혀 이해하지 못한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찬가지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라 기호를 조작할 뿐인 컴퓨터가 인간과 똑같은 입력을 받아 출력을 준다 하더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처럼 이해를 가질 수 없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 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 비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읽을거리와 과제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프로그램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중국어방에서 내가 중국어 질문을 받아 대답하는 상황과 한글로 된 질문을 받아 대답하는 상황 사이의 본질적인 차이란 무엇일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에 대해 존 설은 어떤 답을 가지고 있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의 답에 대해 어떻게 생각하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당신이라면 어떤 답을 하고 싶은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참고자료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앨런 튜링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계산 기계와 지능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[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1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에 수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프로그램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[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2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에 수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호프스태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&amp;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대닛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2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사이언스북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2001)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로저 펜로즈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황제의 새 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화여자대학교출판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1996), 1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장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컴퓨터도 마음을 소유할 수 있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데카르트의 이원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" name="그림 3" descr="user_full_512.png"/>
          <p:cNvPicPr/>
          <p:nvPr/>
        </p:nvPicPr>
        <p:blipFill>
          <a:blip r:embed="rId1"/>
          <a:stretch/>
        </p:blipFill>
        <p:spPr>
          <a:xfrm>
            <a:off x="-181080" y="2781360"/>
            <a:ext cx="3292560" cy="3292560"/>
          </a:xfrm>
          <a:prstGeom prst="rect">
            <a:avLst/>
          </a:prstGeom>
          <a:ln w="0">
            <a:noFill/>
          </a:ln>
        </p:spPr>
      </p:pic>
      <p:pic>
        <p:nvPicPr>
          <p:cNvPr id="54" name="그림 5" descr="user_full_512.png"/>
          <p:cNvPicPr/>
          <p:nvPr/>
        </p:nvPicPr>
        <p:blipFill>
          <a:blip r:embed="rId2"/>
          <a:stretch/>
        </p:blipFill>
        <p:spPr>
          <a:xfrm>
            <a:off x="5672160" y="2800440"/>
            <a:ext cx="32925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타원 6"/>
          <p:cNvSpPr/>
          <p:nvPr/>
        </p:nvSpPr>
        <p:spPr>
          <a:xfrm>
            <a:off x="4643280" y="3068640"/>
            <a:ext cx="968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타원 7"/>
          <p:cNvSpPr/>
          <p:nvPr/>
        </p:nvSpPr>
        <p:spPr>
          <a:xfrm>
            <a:off x="7304040" y="3030480"/>
            <a:ext cx="95400" cy="11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등호 8"/>
          <p:cNvSpPr/>
          <p:nvPr/>
        </p:nvSpPr>
        <p:spPr>
          <a:xfrm>
            <a:off x="2768760" y="2997360"/>
            <a:ext cx="723600" cy="385560"/>
          </a:xfrm>
          <a:custGeom>
            <a:avLst/>
            <a:gdLst>
              <a:gd name="textAreaLeft" fmla="*/ 95760 w 723600"/>
              <a:gd name="textAreaRight" fmla="*/ 627840 w 723600"/>
              <a:gd name="textAreaTop" fmla="*/ 79200 h 385560"/>
              <a:gd name="textAreaBottom" fmla="*/ 306360 h 385560"/>
            </a:gdLst>
            <a:ahLst/>
            <a:rect l="textAreaLeft" t="textAreaTop" r="textAreaRight" b="textAreaBottom"/>
            <a:pathLst>
              <a:path w="723386" h="385903">
                <a:moveTo>
                  <a:pt x="95885" y="79496"/>
                </a:moveTo>
                <a:lnTo>
                  <a:pt x="627501" y="79496"/>
                </a:lnTo>
                <a:lnTo>
                  <a:pt x="627501" y="170260"/>
                </a:lnTo>
                <a:lnTo>
                  <a:pt x="95885" y="170260"/>
                </a:lnTo>
                <a:close/>
                <a:moveTo>
                  <a:pt x="95885" y="215643"/>
                </a:moveTo>
                <a:lnTo>
                  <a:pt x="627501" y="215643"/>
                </a:lnTo>
                <a:lnTo>
                  <a:pt x="627501" y="306407"/>
                </a:lnTo>
                <a:lnTo>
                  <a:pt x="95885" y="306407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덧셈 기호 9"/>
          <p:cNvSpPr/>
          <p:nvPr/>
        </p:nvSpPr>
        <p:spPr>
          <a:xfrm>
            <a:off x="5697360" y="2852640"/>
            <a:ext cx="530280" cy="550800"/>
          </a:xfrm>
          <a:custGeom>
            <a:avLst/>
            <a:gdLst>
              <a:gd name="textAreaLeft" fmla="*/ 70200 w 530280"/>
              <a:gd name="textAreaRight" fmla="*/ 460080 w 530280"/>
              <a:gd name="textAreaTop" fmla="*/ 213120 h 550800"/>
              <a:gd name="textAreaBottom" fmla="*/ 337680 h 550800"/>
            </a:gdLst>
            <a:ahLst/>
            <a:rect l="textAreaLeft" t="textAreaTop" r="textAreaRight" b="textAreaBottom"/>
            <a:pathLst>
              <a:path w="530483" h="551290">
                <a:moveTo>
                  <a:pt x="70315" y="213260"/>
                </a:moveTo>
                <a:lnTo>
                  <a:pt x="202857" y="213260"/>
                </a:lnTo>
                <a:lnTo>
                  <a:pt x="202857" y="73073"/>
                </a:lnTo>
                <a:lnTo>
                  <a:pt x="327626" y="73073"/>
                </a:lnTo>
                <a:lnTo>
                  <a:pt x="327626" y="213260"/>
                </a:lnTo>
                <a:lnTo>
                  <a:pt x="460168" y="213260"/>
                </a:lnTo>
                <a:lnTo>
                  <a:pt x="460168" y="338030"/>
                </a:lnTo>
                <a:lnTo>
                  <a:pt x="327626" y="338030"/>
                </a:lnTo>
                <a:lnTo>
                  <a:pt x="327626" y="478217"/>
                </a:lnTo>
                <a:lnTo>
                  <a:pt x="202857" y="478217"/>
                </a:lnTo>
                <a:lnTo>
                  <a:pt x="202857" y="338030"/>
                </a:lnTo>
                <a:lnTo>
                  <a:pt x="70315" y="33803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0"/>
          <p:cNvSpPr/>
          <p:nvPr/>
        </p:nvSpPr>
        <p:spPr>
          <a:xfrm>
            <a:off x="3995640" y="2133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마음</a:t>
            </a: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1"/>
          <p:cNvSpPr/>
          <p:nvPr/>
        </p:nvSpPr>
        <p:spPr>
          <a:xfrm>
            <a:off x="6659640" y="206064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신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2"/>
          <p:cNvSpPr/>
          <p:nvPr/>
        </p:nvSpPr>
        <p:spPr>
          <a:xfrm>
            <a:off x="826920" y="206064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인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타원 13"/>
          <p:cNvSpPr/>
          <p:nvPr/>
        </p:nvSpPr>
        <p:spPr>
          <a:xfrm>
            <a:off x="3708360" y="2781360"/>
            <a:ext cx="1871640" cy="2016000"/>
          </a:xfrm>
          <a:prstGeom prst="ellipse">
            <a:avLst/>
          </a:prstGeom>
          <a:solidFill>
            <a:srgbClr val="4f81bd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각하는 존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타원 14"/>
          <p:cNvSpPr/>
          <p:nvPr/>
        </p:nvSpPr>
        <p:spPr>
          <a:xfrm>
            <a:off x="6372360" y="2781360"/>
            <a:ext cx="1871640" cy="2016000"/>
          </a:xfrm>
          <a:prstGeom prst="ellipse">
            <a:avLst/>
          </a:prstGeom>
          <a:solidFill>
            <a:srgbClr val="4f81bd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5329080"/>
            <a:ext cx="7488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을 감쪽같이 닮은 자동 기계가 있다면 기계와 인간을 어떻게 구별할 수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6" name="Picture 4" descr="http://postfiles7.naver.net/20100607_278/ghost0221_12758711426054UzF1_jpg/blade20runner20racheal_ghost0221.jpg?type=w3">
            <a:hlinkClick r:id="rId1"/>
          </p:cNvPr>
          <p:cNvPicPr/>
          <p:nvPr/>
        </p:nvPicPr>
        <p:blipFill>
          <a:blip r:embed="rId2"/>
          <a:srcRect l="0" t="0" r="0" b="25703"/>
          <a:stretch/>
        </p:blipFill>
        <p:spPr>
          <a:xfrm>
            <a:off x="2411280" y="620640"/>
            <a:ext cx="410544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 테스트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(1950)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00000"/>
              </a:solidFill>
              <a:latin typeface="맑은 고딕"/>
            </a:endParaRPr>
          </a:p>
        </p:txBody>
      </p:sp>
      <p:pic>
        <p:nvPicPr>
          <p:cNvPr id="69" name="그림 3" descr="avatar_128.png"/>
          <p:cNvPicPr/>
          <p:nvPr/>
        </p:nvPicPr>
        <p:blipFill>
          <a:blip r:embed="rId1"/>
          <a:stretch/>
        </p:blipFill>
        <p:spPr>
          <a:xfrm>
            <a:off x="3564000" y="51577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그림 5" descr="home_512.png"/>
          <p:cNvPicPr/>
          <p:nvPr/>
        </p:nvPicPr>
        <p:blipFill>
          <a:blip r:embed="rId2"/>
          <a:stretch/>
        </p:blipFill>
        <p:spPr>
          <a:xfrm>
            <a:off x="1042920" y="1916280"/>
            <a:ext cx="2583000" cy="2582640"/>
          </a:xfrm>
          <a:prstGeom prst="rect">
            <a:avLst/>
          </a:prstGeom>
          <a:ln w="0">
            <a:noFill/>
          </a:ln>
        </p:spPr>
      </p:pic>
      <p:pic>
        <p:nvPicPr>
          <p:cNvPr id="71" name="그림 7" descr="home_512.png"/>
          <p:cNvPicPr/>
          <p:nvPr/>
        </p:nvPicPr>
        <p:blipFill>
          <a:blip r:embed="rId3"/>
          <a:stretch/>
        </p:blipFill>
        <p:spPr>
          <a:xfrm>
            <a:off x="5148360" y="1927080"/>
            <a:ext cx="2582640" cy="2581560"/>
          </a:xfrm>
          <a:prstGeom prst="rect">
            <a:avLst/>
          </a:prstGeom>
          <a:ln w="0">
            <a:noFill/>
          </a:ln>
        </p:spPr>
      </p:pic>
      <p:pic>
        <p:nvPicPr>
          <p:cNvPr id="72" name="그림 9" descr="comment_128.png"/>
          <p:cNvPicPr/>
          <p:nvPr/>
        </p:nvPicPr>
        <p:blipFill>
          <a:blip r:embed="rId4"/>
          <a:stretch/>
        </p:blipFill>
        <p:spPr>
          <a:xfrm>
            <a:off x="428472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그림 11" descr="comment_128.png"/>
          <p:cNvPicPr/>
          <p:nvPr/>
        </p:nvPicPr>
        <p:blipFill>
          <a:blip r:embed="rId5"/>
          <a:stretch/>
        </p:blipFill>
        <p:spPr>
          <a:xfrm>
            <a:off x="65167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2" descr="computer_128.png"/>
          <p:cNvPicPr/>
          <p:nvPr/>
        </p:nvPicPr>
        <p:blipFill>
          <a:blip r:embed="rId6"/>
          <a:stretch/>
        </p:blipFill>
        <p:spPr>
          <a:xfrm>
            <a:off x="1692360" y="321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그림 13" descr="comment_128.png"/>
          <p:cNvPicPr/>
          <p:nvPr/>
        </p:nvPicPr>
        <p:blipFill>
          <a:blip r:embed="rId7"/>
          <a:stretch/>
        </p:blipFill>
        <p:spPr>
          <a:xfrm>
            <a:off x="2411280" y="249228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그림 14" descr="user_full_512.png"/>
          <p:cNvPicPr/>
          <p:nvPr/>
        </p:nvPicPr>
        <p:blipFill>
          <a:blip r:embed="rId8"/>
          <a:srcRect l="28434" t="0" r="25644" b="49701"/>
          <a:stretch/>
        </p:blipFill>
        <p:spPr>
          <a:xfrm>
            <a:off x="5867280" y="3141720"/>
            <a:ext cx="1249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테스트에서 기계와 인간을 구별할 수 없다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기계는 생각을 한다고 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기계의 후보는 바로</a:t>
            </a:r>
            <a:br>
              <a:rPr sz="3000"/>
            </a:b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추상적으로는 튜링 기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br>
              <a:rPr sz="3000"/>
            </a:b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구체적으로는 디지털 컴퓨터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른 기호 처리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능한 반론들에 대한 검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신학적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진실 회피형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수학적 반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의식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여러 결함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러블레이스 부인의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신경계의 연속성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행위의 비형식성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초감각적 지각을 근거로 하는 논의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수학적 반박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괴델의 정리에 따르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어떤 일관된 논리 체계이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체계 내에서 증명도 반증도 할 수 없는 언명이 정식화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일관된 논리 체계에 기반한 디지털 컴퓨터 역시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아무리 질문에 그럴듯한 답을 잘 하게 만든 컴퓨터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엉뚱한 답을 하거나 아무리 많은 시간을 주더라도 아무런 답을 내놓지 못하는 질문이 존재할 것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어떤 특정한 기계의 능력에 한계가 있음을 인정할 수는 있다 하더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똑같은 한계가 사람의 지성에도 적용될 수 없다는 것은 전혀 증명되지 않았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사람 역시 엉뚱한 답을 하곤 하지 않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1-22T17:02:05Z</dcterms:modified>
  <cp:revision>20</cp:revision>
  <dc:subject/>
  <dc:title>컴퓨터는 어떻게  덧셈, 뺄셈을 할까?</dc:title>
</cp:coreProperties>
</file>